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FD7-5738-4ABD-ADF0-2C1F3ECF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672-C2AE-4423-9E41-E2804E20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DB2-A98F-4BE4-9A28-672FBE0D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C86-EB75-4435-8676-AEA3B9DD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02DB-06DB-4DE3-90FE-9275E6F2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010C-E7AD-45D5-8268-E02F4EF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AE85-A81A-4CC6-88C7-D7D911F7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2813-F7D7-4FE4-97A0-E636F73B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EC6B-E471-4AFF-82EF-9B11149A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AC36-79D4-41C5-8D24-C5D65445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4E0F-711A-4809-952F-E279E7A1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5E4-0DF9-4471-B223-5A39245D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5E93-DCF6-41F8-9FDF-3B9E0CCD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5BD4-D409-4A87-9FC0-648DDA26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CB03-EBE3-46B0-BC1D-B94852B5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C335-07BF-4DF6-9E5C-DA8CDE83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6704-96EC-4AB9-B9B2-7538B7AE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88D-B85E-435B-BF2A-3346B220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F8A-2EC7-4B7E-85DA-09555670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9CA-66E0-4693-824C-15513D8D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54D-6F44-41CD-890F-2C1EE3F6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3F43-A579-48E3-885C-38B93F02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A5B-DF45-4B69-9537-B9EC590D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C39-61DA-4800-8B17-4E20FE8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377F-D50C-4283-8D66-2D12AF04CD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EFC1-1158-490E-8DBE-4A7AC8AA9A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68360" y="321300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</a:rPr>
              <a:t>SALDOS OBTENIDOS AL 31 DE DICIEMBRE DE 2008                     ASIENTO DE APERTURA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979640" y="5229360"/>
            <a:ext cx="6858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Arial"/>
              </a:rPr>
              <a:t>CECILIA HERRERA TEJAD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Dirección Nacional de Contabilidad Públic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ima,  Noviembre de 2008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Group 5"/>
          <p:cNvGrpSpPr/>
          <p:nvPr/>
        </p:nvGrpSpPr>
        <p:grpSpPr>
          <a:xfrm>
            <a:off x="395280" y="836640"/>
            <a:ext cx="5472000" cy="936720"/>
            <a:chOff x="395280" y="836640"/>
            <a:chExt cx="5472000" cy="936720"/>
          </a:xfrm>
        </p:grpSpPr>
        <p:grpSp>
          <p:nvGrpSpPr>
            <p:cNvPr id="88" name="Group 6"/>
            <p:cNvGrpSpPr/>
            <p:nvPr/>
          </p:nvGrpSpPr>
          <p:grpSpPr>
            <a:xfrm>
              <a:off x="395280" y="836640"/>
              <a:ext cx="701640" cy="936720"/>
              <a:chOff x="395280" y="836640"/>
              <a:chExt cx="701640" cy="936720"/>
            </a:xfrm>
          </p:grpSpPr>
          <p:pic>
            <p:nvPicPr>
              <p:cNvPr id="89" name="Picture 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395280" y="989640"/>
                <a:ext cx="70164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WordArt 8"/>
              <p:cNvSpPr txBox="1"/>
              <p:nvPr/>
            </p:nvSpPr>
            <p:spPr>
              <a:xfrm>
                <a:off x="461520" y="836640"/>
                <a:ext cx="530280" cy="30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91" name="Rectangle 9"/>
            <p:cNvSpPr/>
            <p:nvPr/>
          </p:nvSpPr>
          <p:spPr>
            <a:xfrm>
              <a:off x="3995640" y="863640"/>
              <a:ext cx="1871640" cy="90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Vice Ministr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e Haciend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10"/>
            <p:cNvSpPr/>
            <p:nvPr/>
          </p:nvSpPr>
          <p:spPr>
            <a:xfrm>
              <a:off x="2124000" y="863640"/>
              <a:ext cx="1871640" cy="909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Ministerio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e Economía y Finanz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1116000" y="863640"/>
              <a:ext cx="1008000" cy="909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PERÚ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Apertura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3 Vehículos, Maquinaria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y Otros    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/. 6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3.01 Vehículos             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4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3.0101 Papa Transport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errestre                                 4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3.02 Maquinarias, Equipo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obiliarios y Otros             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2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3.0203 Equipos Informátic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y de Comunicaciones                2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3.020301 Equip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omputacionales y Periféricos   2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Oval 5"/>
          <p:cNvSpPr/>
          <p:nvPr/>
        </p:nvSpPr>
        <p:spPr>
          <a:xfrm>
            <a:off x="468360" y="7677000"/>
            <a:ext cx="914400" cy="9144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38" name="Line 7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ierre Contable 20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4 Inversiones Intangibles                             S/.   2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41.01 Estudios 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nvestigaciones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/. 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2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6 Bienes Culturales                                     S/.   1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61 Valores Culturales  S/. 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1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61.01 Libros y Textos        1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7 Infraestructura Pública                             S/. 10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71 Inversiones en Servici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úblicos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/.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10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71.09 Plazuelas                40,000.0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71.16 Edificaciones par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Bibliotecas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6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50760" y="7697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" name="Group 6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44" name="Line 7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9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Apertura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5 Estudios y Proyectos                        S/.     2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5.02 Elaboración d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xpedientes Técnicos        S/. 2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7 Otros Activos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/.    15,000.0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7.02 Bienes Culturales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1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7.0201 Libros y Tex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ara Bibliotec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1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1  Edificios y Estructuras                      S/.  100,000.00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1.02 Edificios o Unidad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no Residenciales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 60,000.0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1.0202 Instalacion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ducativas        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6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1.03 Estructuras        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4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1.0306 Plazuelas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arques y Jardines  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5"/>
          <p:cNvGrpSpPr/>
          <p:nvPr/>
        </p:nvGrpSpPr>
        <p:grpSpPr>
          <a:xfrm>
            <a:off x="0" y="476280"/>
            <a:ext cx="8207280" cy="0"/>
            <a:chOff x="0" y="476280"/>
            <a:chExt cx="8207280" cy="0"/>
          </a:xfrm>
        </p:grpSpPr>
        <p:sp>
          <p:nvSpPr>
            <p:cNvPr id="149" name="Line 6"/>
            <p:cNvSpPr/>
            <p:nvPr/>
          </p:nvSpPr>
          <p:spPr>
            <a:xfrm>
              <a:off x="0" y="476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3024000" y="476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>
              <a:off x="5975280" y="476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ierre Contable 20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9 Provisión para Cuentas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obranza y Reclamaciones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S/. (5,000.00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91 Provisión para Cuenta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Cobranza Dudosa            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91.01 Provisión para cuent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or Cobrar                                 5,000.00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9 Depreciación, Agotamiento 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mortización Acumulad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    S/. (50,000.00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91 Depreciación Acumulada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Bienes Inmuebles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2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91.01 Edificios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2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92 Depreciación Acumulada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Bienes Muebles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1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92.02 Equipo de Transporte       1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92.03 Muebles y Enseres             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97 Depreciación d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Infraestructura Pública          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15,000.00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0" y="476280"/>
            <a:ext cx="8207280" cy="0"/>
            <a:chOff x="0" y="476280"/>
            <a:chExt cx="8207280" cy="0"/>
          </a:xfrm>
        </p:grpSpPr>
        <p:sp>
          <p:nvSpPr>
            <p:cNvPr id="154" name="Line 6"/>
            <p:cNvSpPr/>
            <p:nvPr/>
          </p:nvSpPr>
          <p:spPr>
            <a:xfrm>
              <a:off x="0" y="476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7"/>
            <p:cNvSpPr/>
            <p:nvPr/>
          </p:nvSpPr>
          <p:spPr>
            <a:xfrm>
              <a:off x="3024000" y="476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8"/>
            <p:cNvSpPr/>
            <p:nvPr/>
          </p:nvSpPr>
          <p:spPr>
            <a:xfrm>
              <a:off x="5975280" y="476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APERTURA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209 Estimación de Cuenta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Cobranza Dudosa                                     S/. (5,000.00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209.01 Cuentas por Cobra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Cobranza Dudos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S/. 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8 Depreciación, Amortizació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y Agotamiento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      S/. (50,000.00)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8.01 Depreciación Acumulad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Edificios y Estructuras        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3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8.0102 Edificios o Unidad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no Residenciales                           2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8.0103 Estructuras                  15,000.0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8.02 Depreciación Acumulada d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Vehículos, Maquinarias y Otros S/.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 15,000.00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8.0201 Vehículos                     1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8.0202 Maquinaria, Equipo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obiliario y Otros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0" y="476280"/>
            <a:ext cx="8207280" cy="0"/>
            <a:chOff x="0" y="476280"/>
            <a:chExt cx="8207280" cy="0"/>
          </a:xfrm>
        </p:grpSpPr>
        <p:sp>
          <p:nvSpPr>
            <p:cNvPr id="159" name="Line 6"/>
            <p:cNvSpPr/>
            <p:nvPr/>
          </p:nvSpPr>
          <p:spPr>
            <a:xfrm>
              <a:off x="0" y="476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3024000" y="476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5975280" y="476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ierre Contable 20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PASIVO  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                                           S/  </a:t>
            </a:r>
            <a:r>
              <a:rPr b="1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87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2 Cuentas por Pagar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        S/.  32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21 Bienes                       S/.  17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22 Servicios                          1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4 Obligaciones Tesoro Público                      S/.  4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41 Gasto Corriente –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Recursos Ordinarios           S/.   5,000.0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46 Gasto de Capital –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tros Recursos                S/.   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3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46.15 Gasto de Capital –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Recursos Determinados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3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64" name="Line 6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Apertura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Pasivo                                                          S/.  </a:t>
            </a:r>
            <a:r>
              <a:rPr b="1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87,000.00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03 Cuentas por Pagar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     S/.  32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03.01 Bienes y Servici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or Pagar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S/. 32,000.00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03.0101 Bienes y Servici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or Pagar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32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05 Obligaciones Tesor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úblico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     S/.  4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05.01 Gasto Corriente      S/.   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05.02 Gasto de Capital           3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69" name="Line 6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ierre Contable 20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7 Provisión para Benefici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ociales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              S/.    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71 Compensación p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iempo de Servicios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/.    5,000.0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71.01 Principal                   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8 Provisiones Diversas                              S/.   1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481 Provisión par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Reclamaciones en Litigi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Judicial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1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74" name="Line 6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Apertura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02 Remuneraciones, Pension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y Beneficios por Pagar     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S/.  5,000.00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02.03 Compensación p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iempo de Servicios por Pagar S/. 5,000.00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02.0301 Régimen Labora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L N° 276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02.030101 Principal                  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401 Provisiones                                           S/.  10,000.00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401.04 Provisión Sentencia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Judiciales, Laudos Arbitral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y Otros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1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401.0401 A Trabajador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Gubernamentales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1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401.040101 Persona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dministrativo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          1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0" y="549360"/>
            <a:ext cx="8207280" cy="0"/>
            <a:chOff x="0" y="549360"/>
            <a:chExt cx="8207280" cy="0"/>
          </a:xfrm>
        </p:grpSpPr>
        <p:sp>
          <p:nvSpPr>
            <p:cNvPr id="179" name="Line 6"/>
            <p:cNvSpPr/>
            <p:nvPr/>
          </p:nvSpPr>
          <p:spPr>
            <a:xfrm>
              <a:off x="0" y="54936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3024000" y="54936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5975280" y="54936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ierre Contable 20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Patrimonio                                                    S/.  </a:t>
            </a:r>
            <a:r>
              <a:rPr b="1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277,000.00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54 Hacienda Nacional                                  S/.  18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541 Capitalización de Haciend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Nacional Adicional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/. 12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543 Capitalización d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Resultados Acumulados   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S/.   6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56 Hacienda Nacional Adicional                      S/.  9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562 Transferencias y Remesa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Capital Recibidas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S/. 9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562.02 Entidades Públicas                 9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59 Resultados Acumulados      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S/.   7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591 Superávit no Transferido         S/. 7,000.0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84" name="Line 6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Line 7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Line 8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Objetivo: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Lograr el registro contable 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oportuno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del asiento de apertura del ejercicio 2009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Método a aplicar: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artir del Plan Contable Gubernamental actual para llegar al Plan Contable Gubernamental que entrará en vigencia a partir del ejercicio 2009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96" name="Line 5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Rectangle 8"/>
          <p:cNvSpPr/>
          <p:nvPr/>
        </p:nvSpPr>
        <p:spPr>
          <a:xfrm>
            <a:off x="684360" y="0"/>
            <a:ext cx="685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2008 – 2009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pertura  20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Patrimonio       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                                        S/.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Verdana"/>
              </a:rPr>
              <a:t>277,000.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3101 Hacienda Nacional 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           S/. 180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3101.01 Capitalización Haci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Nacional Adicional    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       S/. 120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3101.03 Capitalización d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Resultados Acumulados        S/.   60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3201 Hacienda Nacional Adicional                  S/. 90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3201.01 Traspasos y Remesas S/. 90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3201.0101 Traspaso de Fondos     90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3201.010102 Gobierno Nacional    90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3401 Resultados Acumulados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         S/.  7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3401.01 Superávit n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Transferido  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   S/.  7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5"/>
          <p:cNvGrpSpPr/>
          <p:nvPr/>
        </p:nvGrpSpPr>
        <p:grpSpPr>
          <a:xfrm>
            <a:off x="0" y="476280"/>
            <a:ext cx="8207280" cy="0"/>
            <a:chOff x="0" y="476280"/>
            <a:chExt cx="8207280" cy="0"/>
          </a:xfrm>
        </p:grpSpPr>
        <p:sp>
          <p:nvSpPr>
            <p:cNvPr id="189" name="Line 6"/>
            <p:cNvSpPr/>
            <p:nvPr/>
          </p:nvSpPr>
          <p:spPr>
            <a:xfrm>
              <a:off x="0" y="476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7"/>
            <p:cNvSpPr/>
            <p:nvPr/>
          </p:nvSpPr>
          <p:spPr>
            <a:xfrm>
              <a:off x="3024000" y="476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5975280" y="476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ierre Contable 20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Activo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                                                S/. </a:t>
            </a:r>
            <a:r>
              <a:rPr b="1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364,000.00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0 Caja y Bancos                                      S/.  1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01 Caja                       S/. 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01.01 Moneda Nac.             5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04 Bco. Ctas. Ctes.          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1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04.05 R.D.R.                      3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04.16 Rec. Determinados    7,000.00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2 Cuentas por Cobrar                                S/.   7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21 Impuestos por Cob. S/. 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7,000.0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21.02 Al Patrimonio            7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02" name="Line 8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9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Line 10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pertura 20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ctivo                                                         S/.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Verdana"/>
              </a:rPr>
              <a:t>364,000.00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101 Caja y Bancos                                    S/. 15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101.01 Caja               S/. 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Verdana"/>
              </a:rPr>
              <a:t>5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101.0101 Caja M/N           5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101.03 Depósitos en Inst.  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Financieras Públicas           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Verdana"/>
              </a:rPr>
              <a:t>7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101.0301 Ctas. Ctes.         7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101.030108 R.D. FONCOM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101.04 Depósitos en In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Financieras Privadas           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Verdana"/>
              </a:rPr>
              <a:t>3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101.0401 Ctas. Ctes.         3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101.040101 R.D.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201 Cuentas por Cobrar                             S/.  7,000.00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201.01 Imp. y Contribuc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Obligatorias                   S/.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Verdana"/>
              </a:rPr>
              <a:t>7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1201.0101 Impuestos          7,000.0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0" y="620640"/>
            <a:ext cx="8207280" cy="0"/>
            <a:chOff x="0" y="620640"/>
            <a:chExt cx="8207280" cy="0"/>
          </a:xfrm>
        </p:grpSpPr>
        <p:sp>
          <p:nvSpPr>
            <p:cNvPr id="107" name="Line 6"/>
            <p:cNvSpPr/>
            <p:nvPr/>
          </p:nvSpPr>
          <p:spPr>
            <a:xfrm>
              <a:off x="0" y="620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Line 7"/>
            <p:cNvSpPr/>
            <p:nvPr/>
          </p:nvSpPr>
          <p:spPr>
            <a:xfrm>
              <a:off x="3024000" y="620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5975280" y="620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ierre Contable 20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7 Cuentas por Cobr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versas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                 S/.  6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71 Deudas de Personal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6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71.02 Responsa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Fiscal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6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 Suministros d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Funcionamiento                                          S/.   6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1 Materiales 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Consumo                       S/. 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6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211.01 Materiales d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ficina y Escritorio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6,000.00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12" name="Line 6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Line 7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Apertura 2009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202 Cuentas por Cobr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versas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     S/.    6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202.08 Al Personal    6,000.00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202.0802 Responsabil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Fiscal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   6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301 Bienes y Suministro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e Funcionamiento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S/.   6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301.05 Materiales y Útiles   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6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301.05.01 De Oficin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6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301.050102 Papelería en Gener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Útiles y Materiales de Oficina       6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0" y="692280"/>
            <a:ext cx="8207280" cy="0"/>
            <a:chOff x="0" y="692280"/>
            <a:chExt cx="8207280" cy="0"/>
          </a:xfrm>
        </p:grpSpPr>
        <p:sp>
          <p:nvSpPr>
            <p:cNvPr id="117" name="Line 6"/>
            <p:cNvSpPr/>
            <p:nvPr/>
          </p:nvSpPr>
          <p:spPr>
            <a:xfrm>
              <a:off x="0" y="69228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3024000" y="69228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5975280" y="69228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ierre Contable 20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3 Inmuebles, Maquinaria 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Equipo   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        S/. 25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31 Bienes Inmuebles           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9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31.01 Terrenos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          1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31.02 Edificios                           80,000.0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32 Bienes Muebles               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6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32.02 Equipos de Transporte       4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32.03 Muebles y Enseres            20,000.00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33 Construcciones en Curso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10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333.01 Por Administració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rect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    10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0" y="765000"/>
            <a:ext cx="8207280" cy="0"/>
            <a:chOff x="0" y="765000"/>
            <a:chExt cx="8207280" cy="0"/>
          </a:xfrm>
        </p:grpSpPr>
        <p:sp>
          <p:nvSpPr>
            <p:cNvPr id="122" name="Line 6"/>
            <p:cNvSpPr/>
            <p:nvPr/>
          </p:nvSpPr>
          <p:spPr>
            <a:xfrm>
              <a:off x="0" y="76500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3024000" y="76500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975280" y="76500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pertura 200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1501 Edificios y Estructuras   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        S/.  180,00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1501.02 Edificios o Unidad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Residenciales                     S/.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Verdana"/>
              </a:rPr>
              <a:t>80,00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1501.0201 Edific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dministrativ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80,00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1501.07 Construcción 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dificios no Residenciales      S/. 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Verdana"/>
              </a:rPr>
              <a:t>100,000.00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1501.0701 Edifici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Administrativ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100,000.0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1501.070102 Por Administració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irecta - Personal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10,00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1501.070103 Por Administració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irecta - Biene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60,00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1501.070104 Por Administr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irecta - Servici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30,00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1501.070105 Por Administració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Directa - Otros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            10,000.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0" y="836640"/>
            <a:ext cx="8207280" cy="0"/>
            <a:chOff x="0" y="836640"/>
            <a:chExt cx="8207280" cy="0"/>
          </a:xfrm>
        </p:grpSpPr>
        <p:sp>
          <p:nvSpPr>
            <p:cNvPr id="127" name="Line 6"/>
            <p:cNvSpPr/>
            <p:nvPr/>
          </p:nvSpPr>
          <p:spPr>
            <a:xfrm>
              <a:off x="0" y="83664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Line 7"/>
            <p:cNvSpPr/>
            <p:nvPr/>
          </p:nvSpPr>
          <p:spPr>
            <a:xfrm>
              <a:off x="3024000" y="83664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5975280" y="83664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Apertura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2 Activos no Producidos                      S/. 1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2.01 Tierras y Terrenos S/.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Verdana"/>
              </a:rPr>
              <a:t>10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2.0101 Terrenos Urbanos     7,000.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1502.0102 Terrenos Rurales      3,000.00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1" name="Group 5"/>
          <p:cNvGrpSpPr/>
          <p:nvPr/>
        </p:nvGrpSpPr>
        <p:grpSpPr>
          <a:xfrm>
            <a:off x="0" y="765000"/>
            <a:ext cx="8207280" cy="0"/>
            <a:chOff x="0" y="765000"/>
            <a:chExt cx="8207280" cy="0"/>
          </a:xfrm>
        </p:grpSpPr>
        <p:sp>
          <p:nvSpPr>
            <p:cNvPr id="132" name="Line 6"/>
            <p:cNvSpPr/>
            <p:nvPr/>
          </p:nvSpPr>
          <p:spPr>
            <a:xfrm>
              <a:off x="0" y="765000"/>
              <a:ext cx="3024000" cy="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3024000" y="765000"/>
              <a:ext cx="3024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>
              <a:off x="5975280" y="765000"/>
              <a:ext cx="223200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6:37:35Z</dcterms:created>
  <dc:creator>c_herrera</dc:creator>
  <dc:description/>
  <dc:language>en-US</dc:language>
  <cp:lastModifiedBy>mef</cp:lastModifiedBy>
  <dcterms:modified xsi:type="dcterms:W3CDTF">2008-12-01T19:48:35Z</dcterms:modified>
  <cp:revision>48</cp:revision>
  <dc:subject/>
  <dc:title>CIERRE CONTABLE 2008</dc:title>
</cp:coreProperties>
</file>